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8818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60480" y="-46080"/>
            <a:ext cx="9204480" cy="6904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52280" y="39600"/>
            <a:ext cx="518184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he Monarchs of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26160" y="0"/>
            <a:ext cx="1600200" cy="496080"/>
          </a:xfrm>
          <a:prstGeom prst="rect">
            <a:avLst/>
          </a:prstGeom>
          <a:solidFill>
            <a:srgbClr val="e2f4fe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4724280" y="6191280"/>
            <a:ext cx="99072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5791320" y="619128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5" action="ppaction://hlinksldjump"/>
          </p:cNvPr>
          <p:cNvSpPr/>
          <p:nvPr/>
        </p:nvSpPr>
        <p:spPr>
          <a:xfrm>
            <a:off x="6915240" y="6172200"/>
            <a:ext cx="99036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endshow"/>
          </p:cNvPr>
          <p:cNvSpPr/>
          <p:nvPr/>
        </p:nvSpPr>
        <p:spPr>
          <a:xfrm>
            <a:off x="8134200" y="6172200"/>
            <a:ext cx="685800" cy="228600"/>
          </a:xfrm>
          <a:prstGeom prst="rect">
            <a:avLst/>
          </a:prstGeom>
          <a:solidFill>
            <a:srgbClr val="000000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Main Idea / Reading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Religious War and Henry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Louis XIII and Riche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Faces of History: Cardinal Riche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The Monarchy of Louis X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762120"/>
            <a:ext cx="8229600" cy="838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bsolute Monarchy and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914400"/>
            <a:ext cx="822960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id Louis XIII and Cardinal Richelieu see as their enem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503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uguenots, nobles, the Hapsburg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5105520"/>
            <a:ext cx="8229600" cy="7038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is XIV chose the sun as his personal symbol, implying that the world revolved around him. He thus became known as the Sun 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143000"/>
            <a:ext cx="8229600" cy="1199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elieu died in 1642, Louis XIII, 1643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uis X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ow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during time of great power, prosperity and gl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reign had lasting impact—both positive and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2438280"/>
            <a:ext cx="4038120" cy="2590560"/>
            <a:chOff x="457200" y="2438280"/>
            <a:chExt cx="4038120" cy="2590560"/>
          </a:xfrm>
        </p:grpSpPr>
        <p:sp>
          <p:nvSpPr>
            <p:cNvPr id="95" name=""/>
            <p:cNvSpPr/>
            <p:nvPr/>
          </p:nvSpPr>
          <p:spPr>
            <a:xfrm>
              <a:off x="457200" y="2891160"/>
              <a:ext cx="4038120" cy="21376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uis XIV also became king at young age, with mother as reg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dinal Mazarin, chief minister after Richelieu, provided adv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uis raised to be king, taught skills needed from childh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2438280"/>
              <a:ext cx="4038120" cy="4528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Rise of the Sun 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narchy of Louis X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48320" y="2438280"/>
            <a:ext cx="4038120" cy="2590560"/>
            <a:chOff x="4648320" y="2438280"/>
            <a:chExt cx="4038120" cy="2590560"/>
          </a:xfrm>
        </p:grpSpPr>
        <p:sp>
          <p:nvSpPr>
            <p:cNvPr id="99" name=""/>
            <p:cNvSpPr/>
            <p:nvPr/>
          </p:nvSpPr>
          <p:spPr>
            <a:xfrm>
              <a:off x="4648320" y="2891160"/>
              <a:ext cx="4038120" cy="21376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ng king supremely confident in ability to r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n Mazarin died, 18-year-old Louis declared he would run government himse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 am the sta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” he decla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8320" y="2438280"/>
              <a:ext cx="4038120" cy="452880"/>
            </a:xfrm>
            <a:prstGeom prst="rect">
              <a:avLst/>
            </a:prstGeom>
            <a:solidFill>
              <a:srgbClr val="fe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nfident in Ability to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solute Mon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 XIV retained absolute power for rest of long re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tradition of absolute monarchy to last more than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ed to be in charge of all military, political, economic initi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solutely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Louis urged nobles to develop expensive new habits of dressing, dining, and gamb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nobles grew poorer, had to depend on king’s generosity just to surv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ral Gover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w power to himself, deprived nobles of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t palace outside Paris at Versailles; demanded nobles visit reg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bles gained prestige being servants at Versailles court, not by figh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lutism at Versa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acle at Versa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ailles was a grand spectacle of kingly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XIV’s style, ceremony emphasized political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ly every moment of king’s day required rituals by bowing cour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ting, dressing, walking in garden, all required a ri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is always knew who had given what he considered proper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143000"/>
            <a:ext cx="8229600" cy="20260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 smashed power of Huguen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ct of Nantes had protected Huguenots since reign of Henry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Richelieu had not be able to eliminate that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85, Louis revoked edict, outlawed Protestantism in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0,000 Huguenots fl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perous merchants, artis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their skills, wealth helped cause financial cr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3200400"/>
            <a:ext cx="4038120" cy="2742840"/>
            <a:chOff x="457200" y="3200400"/>
            <a:chExt cx="4038120" cy="2742840"/>
          </a:xfrm>
        </p:grpSpPr>
        <p:sp>
          <p:nvSpPr>
            <p:cNvPr id="110" name=""/>
            <p:cNvSpPr/>
            <p:nvPr/>
          </p:nvSpPr>
          <p:spPr>
            <a:xfrm>
              <a:off x="457200" y="3679920"/>
              <a:ext cx="4038120" cy="22633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uis’ finances always a conce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nd lifestyle cost great deal of mon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easury saved by efficient policies of Jean-Baptiste Colbe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mited imports, increased expor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 reduced government’s deb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200400"/>
              <a:ext cx="4038120" cy="4795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oney and the Milit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648320" y="3200400"/>
            <a:ext cx="4038120" cy="2742840"/>
            <a:chOff x="4648320" y="3200400"/>
            <a:chExt cx="4038120" cy="2742840"/>
          </a:xfrm>
        </p:grpSpPr>
        <p:sp>
          <p:nvSpPr>
            <p:cNvPr id="113" name=""/>
            <p:cNvSpPr/>
            <p:nvPr/>
          </p:nvSpPr>
          <p:spPr>
            <a:xfrm>
              <a:off x="4648320" y="3679920"/>
              <a:ext cx="4038120" cy="22633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uis needed cash to build up military, expand French terri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larged army to more than 200,000 disciplined soldi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nt money on good 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3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s most powerful ruler in Europe, taking France to war four 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3200400"/>
              <a:ext cx="4038120" cy="47952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ost Powerful Ru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uis and Protestant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heir in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 wanted to increase power beyond France’s borders; wars cost de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stly wa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 of the Spanish 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n when Spanish king died without an he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4343400"/>
            <a:ext cx="8229600" cy="1600200"/>
          </a:xfrm>
          <a:prstGeom prst="rect">
            <a:avLst/>
          </a:prstGeom>
          <a:solidFill>
            <a:srgbClr val="80b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01, England, Netherlands, Holy Roman Empire went to war against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not limited to Europe, spread to North America as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connected to phase of French and Indian W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743200"/>
            <a:ext cx="8229600" cy="144792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rulers claimed they should name suc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 wanted Spanish throne for oldest 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ropean monarchs did not want France, Spain so closely 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over a Th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y of Utr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13, after many defeats, Louis accept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y of Utre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said Louis’s grandson got Spanish 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said France, Spain never to be ruled by same mon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had to give up most of territory he had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benefited England at expense of France,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setback, Louis XIV remained in power until death, 1715—still absolute mon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914400"/>
            <a:ext cx="8229600" cy="228600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Mai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some main events during Louis XIV’s reig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5035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ilding of Versailles, cancellation of Edict of Nantes, War of the Spanish Succession, Treaty of Utre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971800"/>
            <a:ext cx="8229600" cy="2895480"/>
          </a:xfrm>
          <a:prstGeom prst="rect">
            <a:avLst/>
          </a:prstGeom>
          <a:solidFill>
            <a:srgbClr val="b8d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Henry IV end France’s wars of religio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Louis XIII and Cardinal Richelieu strengthen the French monarch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ere the main events in the monarchy of Louis XI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143000"/>
            <a:ext cx="8229600" cy="167652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ry IV, Louis XIII, and Louis XIV strengthened the French monarchy, with Louis XIV setting the example of an absolute monarch for the rest of Europ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lute Monarchy and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igious War and Henry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 after Protestant Reformation began in Germany, it spread to 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60s, one in ten French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gue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rench Calvinist Prote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oble families Hugueno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Protestants threatened Catholic French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archy thought all should share “one king, one law, one relig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3336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gious conflict a challenge to absolute monarc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660920" y="1143000"/>
            <a:ext cx="4025520" cy="4800240"/>
            <a:chOff x="4660920" y="1143000"/>
            <a:chExt cx="4025520" cy="4800240"/>
          </a:xfrm>
        </p:grpSpPr>
        <p:sp>
          <p:nvSpPr>
            <p:cNvPr id="55" name=""/>
            <p:cNvSpPr/>
            <p:nvPr/>
          </p:nvSpPr>
          <p:spPr>
            <a:xfrm>
              <a:off x="4660920" y="1659600"/>
              <a:ext cx="4025520" cy="428364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11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enry of Navarre denied his religion, escaped deat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ater in line to be king, but as Huguenot had to fight Catholic troops to claim thron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593, won acceptance by converting to Catholicis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rowned as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nry IV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1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xplained conversion by saying, “Paris is well worth a mass.”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60920" y="1143000"/>
              <a:ext cx="4025520" cy="516600"/>
            </a:xfrm>
            <a:prstGeom prst="rect">
              <a:avLst/>
            </a:prstGeom>
            <a:solidFill>
              <a:srgbClr val="f2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enry 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57200" y="1143000"/>
            <a:ext cx="4025520" cy="4800240"/>
            <a:chOff x="457200" y="1143000"/>
            <a:chExt cx="4025520" cy="4800240"/>
          </a:xfrm>
        </p:grpSpPr>
        <p:sp>
          <p:nvSpPr>
            <p:cNvPr id="58" name=""/>
            <p:cNvSpPr/>
            <p:nvPr/>
          </p:nvSpPr>
          <p:spPr>
            <a:xfrm>
              <a:off x="457200" y="1659600"/>
              <a:ext cx="4025520" cy="42836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>
                <a:lnSpc>
                  <a:spcPct val="100000"/>
                </a:lnSpc>
                <a:spcAft>
                  <a:spcPts val="4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n France fighting broke out between Catholics and Hugueno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572, Catholic queen of France ordered Huguenots in Paris kill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ssassins started with nobles in city for Henry of Navarre’s wedd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vent became known as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aint Bartholomew’s Day Massac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4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iolence spread; final Huguenot death toll up to 70,0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" y="1143000"/>
              <a:ext cx="4025520" cy="51660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assac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 and a New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352680"/>
            <a:ext cx="8229600" cy="2292480"/>
          </a:xfrm>
          <a:prstGeom prst="rect">
            <a:avLst/>
          </a:prstGeom>
          <a:solidFill>
            <a:srgbClr val="f8c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nry IV then focused on repairing war-torn count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proved financial situation, eliminated debt, built up surpl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ated new industries, encouraged agriculture, stimulated trade, drained swamps, built canals, roa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came one of France’s most respected monarch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914400"/>
            <a:ext cx="8229600" cy="22924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om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nry knew compromise needed to restore peac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dict of Nantes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1598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ave Huguenots limited freedom of worshi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so, right to hold office, rule in 200 cities where in majorit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spcAft>
                <a:spcPts val="7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jects no longer had to follow religion of throne; for French Catholics, ended religious wars, but Catholicism official relig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533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914400"/>
            <a:ext cx="8229600" cy="2209680"/>
          </a:xfrm>
          <a:prstGeom prst="rect">
            <a:avLst/>
          </a:prstGeom>
          <a:solidFill>
            <a:srgbClr val="e2f4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Bef>
                <a:spcPts val="7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some of the high points and low points in the life of Henry IV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3840" y="824040"/>
            <a:ext cx="496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4290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swer(s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sible answer—high points: being crowned king, Edict of Nantes, reforms; low points: Saint Bartholomew's Day Massacre, having to fight to claim th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1143000"/>
            <a:ext cx="8076960" cy="1199520"/>
          </a:xfrm>
          <a:prstGeom prst="rect">
            <a:avLst/>
          </a:prstGeom>
          <a:solidFill>
            <a:srgbClr val="f29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ry ruled for another ten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610 he was stabbed by a fanatic Catho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 s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uis XI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ow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520" y="2438280"/>
            <a:ext cx="2590560" cy="3505320"/>
            <a:chOff x="533520" y="2438280"/>
            <a:chExt cx="2590560" cy="3505320"/>
          </a:xfrm>
        </p:grpSpPr>
        <p:sp>
          <p:nvSpPr>
            <p:cNvPr id="70" name=""/>
            <p:cNvSpPr/>
            <p:nvPr/>
          </p:nvSpPr>
          <p:spPr>
            <a:xfrm>
              <a:off x="533520" y="2815560"/>
              <a:ext cx="2590560" cy="31280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ther, as regent, governed in his place for several ye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n Louis XIII old enough to rule, Catholic churchman,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dinal Richelieu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became chief minister, adv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2438280"/>
              <a:ext cx="2590560" cy="3772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Young 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276720" y="2438280"/>
            <a:ext cx="2590560" cy="3505320"/>
            <a:chOff x="3276720" y="2438280"/>
            <a:chExt cx="2590560" cy="3505320"/>
          </a:xfrm>
        </p:grpSpPr>
        <p:sp>
          <p:nvSpPr>
            <p:cNvPr id="73" name=""/>
            <p:cNvSpPr/>
            <p:nvPr/>
          </p:nvSpPr>
          <p:spPr>
            <a:xfrm>
              <a:off x="3276720" y="2815560"/>
              <a:ext cx="2590560" cy="31280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chelieu wanted to reduce power of Huguenots, strengthen monarc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27, used situation at port city, La Rochelle, to signal resisting monarchy carried ri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720" y="2438280"/>
              <a:ext cx="2590560" cy="37728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Resistance Risk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19920" y="2438280"/>
            <a:ext cx="2590560" cy="3505320"/>
            <a:chOff x="6019920" y="2438280"/>
            <a:chExt cx="2590560" cy="3505320"/>
          </a:xfrm>
        </p:grpSpPr>
        <p:sp>
          <p:nvSpPr>
            <p:cNvPr id="76" name=""/>
            <p:cNvSpPr/>
            <p:nvPr/>
          </p:nvSpPr>
          <p:spPr>
            <a:xfrm>
              <a:off x="6019920" y="2815560"/>
              <a:ext cx="2590560" cy="31280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 Rochelle had sided with English forces that took nearby isl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chelieu’s troops cut off supplies to 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1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ed walls torn down, all churches to become Cathol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19920" y="2438280"/>
              <a:ext cx="2590560" cy="37728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tarved Out 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uis XIII and Richeli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50960" y="990720"/>
            <a:ext cx="5840280" cy="45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1066680"/>
            <a:ext cx="8076960" cy="799200"/>
          </a:xfrm>
          <a:prstGeom prst="rect">
            <a:avLst/>
          </a:prstGeom>
          <a:solidFill>
            <a:srgbClr val="fee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elieu and the king saw the nobles as a thr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dinal Richelieu turned to suppressing the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3520" y="1981080"/>
            <a:ext cx="3885840" cy="3962160"/>
            <a:chOff x="533520" y="1981080"/>
            <a:chExt cx="3885840" cy="3962160"/>
          </a:xfrm>
        </p:grpSpPr>
        <p:sp>
          <p:nvSpPr>
            <p:cNvPr id="82" name=""/>
            <p:cNvSpPr/>
            <p:nvPr/>
          </p:nvSpPr>
          <p:spPr>
            <a:xfrm>
              <a:off x="533520" y="2407320"/>
              <a:ext cx="3885840" cy="353592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chelieu’s spies uncovered series of planned revo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nishments were sev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chelieu had three prominent nobles publicly executed for trea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520" y="1981080"/>
              <a:ext cx="3885840" cy="426240"/>
            </a:xfrm>
            <a:prstGeom prst="rect">
              <a:avLst/>
            </a:prstGeom>
            <a:solidFill>
              <a:srgbClr val="b8d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unishing Nob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24280" y="1981080"/>
            <a:ext cx="3885840" cy="3962160"/>
            <a:chOff x="4724280" y="1981080"/>
            <a:chExt cx="3885840" cy="3962160"/>
          </a:xfrm>
        </p:grpSpPr>
        <p:sp>
          <p:nvSpPr>
            <p:cNvPr id="85" name=""/>
            <p:cNvSpPr/>
            <p:nvPr/>
          </p:nvSpPr>
          <p:spPr>
            <a:xfrm>
              <a:off x="4724280" y="2407320"/>
              <a:ext cx="3885840" cy="353592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s chief minister, Richelieu also directed foreign poli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rty Years War pitted Catholics against Protestants in Central Eur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Aft>
                  <a:spcPts val="125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chelieu involved France on side of Protestants in attempt to bring down Hapsbur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24280" y="1981080"/>
              <a:ext cx="3885840" cy="426240"/>
            </a:xfrm>
            <a:prstGeom prst="rect">
              <a:avLst/>
            </a:prstGeom>
            <a:solidFill>
              <a:srgbClr val="80b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ighting Cathol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6094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at from N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乩歫椠䱡畳椀㸲㻸ꔿ㌋䬮ꍰ䞮誀圇짗꾬钒붤鏊꣊㥊揤鞁</cp:lastModifiedBy>
  <cp:lastPrinted>2005-02-01T16:21:45Z</cp:lastPrinted>
  <dcterms:modified xsi:type="dcterms:W3CDTF">2007-01-17T11:14:59Z</dcterms:modified>
  <cp:revision>243</cp:revision>
  <dc:subject/>
  <dc:title>PowerPoint Presentation</dc:title>
</cp:coreProperties>
</file>